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7.png" ContentType="image/png"/>
  <Override PartName="/ppt/media/image26.jpeg" ContentType="image/jpeg"/>
  <Override PartName="/ppt/media/image5.jpeg" ContentType="image/jpeg"/>
  <Override PartName="/ppt/media/image10.jpeg" ContentType="image/jpeg"/>
  <Override PartName="/ppt/media/image8.jpeg" ContentType="image/jpeg"/>
  <Override PartName="/ppt/media/image28.png" ContentType="image/png"/>
  <Override PartName="/ppt/media/image7.jpeg" ContentType="image/jpeg"/>
  <Override PartName="/ppt/media/image12.jpeg" ContentType="image/jpeg"/>
  <Override PartName="/ppt/media/image13.jpeg" ContentType="image/jpeg"/>
  <Override PartName="/ppt/media/image6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21.png" ContentType="image/png"/>
  <Override PartName="/ppt/media/image19.png" ContentType="image/png"/>
  <Override PartName="/ppt/media/image2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E3FF7-3CD4-4D1E-AFEA-7E1424ED09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96B35-FA23-43A5-9B96-25B4CAB4BB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718D9-C0EF-416D-B8FF-21AD5A0242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A5953-B1BB-4068-9BE9-C1381B70D0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6AAAC-9F8F-4592-9F0E-F79CA8ED2D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B5ECD-6BCC-41B7-8BD4-956992B689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6C2CE-5844-4E9A-9BEE-79C6D1E4AB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804F1-2EC0-48DD-B100-42EFB3D6F9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71A77-8291-4CE7-8FCD-9DC73F277B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4A962-E1CF-4CA9-83D9-D51B144D38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86A10-A0B7-4423-82A5-963BEC6BA9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76356-21FB-4265-AB08-475D430EEA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78C0E-59CA-4102-9431-35229B05A9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27165-70BD-4836-A145-F9C3F63CE6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B2E2A-D962-459A-B919-CAEBDA4533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4809C-63B5-4CA1-80E0-F3124031A0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D2BD7-866B-410E-880C-553E90FF60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E4D84-4E97-46D8-977E-8E08FFCCE4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01C77-DD6B-46EC-AF37-29FC27E63E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1CD71-0321-409F-8E95-7B00A29DBD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ECC61-FF63-4727-B26D-A158F47604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FA0EC-1025-45A6-93DC-A01D105ACC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9D720-F768-417C-842F-5601E9F805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3CB5D-0366-485B-B9E9-0482D96703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C3194-9321-441F-BA06-CB60E0CBE3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04466-6B7B-4E25-B06A-9A3793E004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C6E06-2553-44C5-8F77-BF6FFF9915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6E3E2-DAFC-4DB6-A9DA-9F787FFD68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1ADF5-0590-43F1-8763-3E2B919C38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7D576-24F3-4277-AFA5-851AE1926E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0A7B3-AB2D-443C-9D6A-8A7C44593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BA992-AB01-4200-BB47-8DCB32662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5923B-84C4-47EB-A93A-FFE7DF52A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56B2B-E1B9-47D9-ADF7-F243552B5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3E8EF-058A-4220-96F4-2A48C0FB0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9CC23-311D-4562-BEC3-12C70815D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1A222-AECC-4A55-A80C-1854ABAD4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72420-CFB7-47D7-9296-45829E0CD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8B50E-813D-448F-BDBA-4065E02F2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658DE-BAFA-414F-A1C3-C4939544C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437C3-021C-4C64-8077-9AAD6E4F4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466B6-5704-478C-828A-763345BDA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0573F-7057-4038-990A-32BEDD762F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mage:Cathars_expelled.JPG" TargetMode="External"/><Relationship Id="rId2" Type="http://schemas.openxmlformats.org/officeDocument/2006/relationships/hyperlink" Target="http://en.wikipedia.org/wiki/Image:Cathars_expelled.JPG" TargetMode="External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gh Middle Age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1000 - 13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65724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4" descr="The kings discuss plans to attack Damascus"/>
          <p:cNvPicPr/>
          <p:nvPr/>
        </p:nvPicPr>
        <p:blipFill>
          <a:blip r:embed="rId1"/>
          <a:stretch/>
        </p:blipFill>
        <p:spPr>
          <a:xfrm>
            <a:off x="2421000" y="2133720"/>
            <a:ext cx="4300560" cy="4495680"/>
          </a:xfrm>
          <a:prstGeom prst="rect">
            <a:avLst/>
          </a:prstGeom>
          <a:ln w="0">
            <a:noFill/>
          </a:ln>
        </p:spPr>
      </p:pic>
    </p:spTree>
  </p:cSld>
  <p:transition>
    <p:cut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xpansion of Edu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80520" y="1066680"/>
            <a:ext cx="541044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rchant class spurred need to create more secular education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for clerks and government officials who could read and write and understand account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thedral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monastic schools restricted admission to the Chur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st new universities were founded from pre-existing Catholic scho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versity of Salerno (9th centur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versity of Bologna (1088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versity of Paris (c. 110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udents flocked to study under famed teache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 first, anyone could tea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st universities were corporations of students &amp; teachers modeled on guild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uild’s duties included hiring facul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udents could dock faculty wag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6" descr="Medieval-university"/>
          <p:cNvPicPr/>
          <p:nvPr/>
        </p:nvPicPr>
        <p:blipFill>
          <a:blip r:embed="rId1"/>
          <a:stretch/>
        </p:blipFill>
        <p:spPr>
          <a:xfrm>
            <a:off x="5715000" y="2487600"/>
            <a:ext cx="3124080" cy="2957400"/>
          </a:xfrm>
          <a:prstGeom prst="rect">
            <a:avLst/>
          </a:prstGeom>
          <a:ln w="0">
            <a:noFill/>
          </a:ln>
        </p:spPr>
      </p:pic>
    </p:spTree>
  </p:cSld>
  <p:transition>
    <p:cut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niversi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579132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ree Types of Univers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udents hired and paid for the teachers - Bolog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achers were paid by the churc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Par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ported by the crown and the stat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– Oxfo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versities became more organiz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regulations for dr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d living accommod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 1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en. rules introduced for teach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x years of study to be a lectur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ight years &amp; 35 years old to teach theolog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udents entered the University at fourteen to fifteen years of 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6" descr="images%5Cstudium_basrelief"/>
          <p:cNvPicPr/>
          <p:nvPr/>
        </p:nvPicPr>
        <p:blipFill>
          <a:blip r:embed="rId1"/>
          <a:stretch/>
        </p:blipFill>
        <p:spPr>
          <a:xfrm>
            <a:off x="5867280" y="2155680"/>
            <a:ext cx="3124440" cy="2544840"/>
          </a:xfrm>
          <a:prstGeom prst="rect">
            <a:avLst/>
          </a:prstGeom>
          <a:ln w="0">
            <a:noFill/>
          </a:ln>
        </p:spPr>
      </p:pic>
    </p:spTree>
  </p:cSld>
  <p:transition>
    <p:cut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versit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560" y="990720"/>
            <a:ext cx="5257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versity studies took six years for a Bachelor degree and up to twelve additional years for a master's degree and doctorat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alties at univers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ogna for legal stud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lerno for medic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is known as the “queen of theology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jects of higher edu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ivium – grammar, rhetoric and log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adrivium – arithmetic, geometry, astronomy and mus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ryone had to take the same cours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wn and gown relations often storm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vil authorities regularly censor students for riotous behavi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udents were afforded the legal protection of the cl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6" descr="743px-Laurentius_de_Voltolina_001"/>
          <p:cNvPicPr/>
          <p:nvPr/>
        </p:nvPicPr>
        <p:blipFill>
          <a:blip r:embed="rId1"/>
          <a:stretch/>
        </p:blipFill>
        <p:spPr>
          <a:xfrm>
            <a:off x="4876920" y="1766880"/>
            <a:ext cx="4114800" cy="3324240"/>
          </a:xfrm>
          <a:prstGeom prst="rect">
            <a:avLst/>
          </a:prstGeom>
          <a:ln w="0">
            <a:noFill/>
          </a:ln>
        </p:spPr>
      </p:pic>
    </p:spTree>
  </p:cSld>
  <p:transition>
    <p:cut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holasticism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541044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minant philosophical, scientific and theological movement of the Middle 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orts of European intellectuals to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oncile reason and fai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ction to contact with Muslim and reintroduction of Classical litera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pended much on the work of Aristot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ter Abelard – French priest – 1079 –114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ctures at cathedral school of Notre Dame in Par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astrous love affair with Helo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c et N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Yes and 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llected statements from the Bible and Church leaders which contradicted each oth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lieved that reason could resolve the contr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urch under Bernard of Clairvaux charged Abelard with heres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5" descr="abelardheloise"/>
          <p:cNvPicPr/>
          <p:nvPr/>
        </p:nvPicPr>
        <p:blipFill>
          <a:blip r:embed="rId1"/>
          <a:stretch/>
        </p:blipFill>
        <p:spPr>
          <a:xfrm>
            <a:off x="5826240" y="1752480"/>
            <a:ext cx="2977920" cy="3962520"/>
          </a:xfrm>
          <a:prstGeom prst="rect">
            <a:avLst/>
          </a:prstGeom>
          <a:ln w="0">
            <a:noFill/>
          </a:ln>
        </p:spPr>
      </p:pic>
    </p:spTree>
  </p:cSld>
  <p:transition>
    <p:cut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holasticis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68580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. Anselm – Benedictine monk – 1079 – 114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lief - no conflict separating man’s spiritual                                    &amp; rational natures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oined reason and faith in credo – “I believe                                      in order to understand”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omas Aquinas, Dominican, 1225 – 127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de every effort to prove that faith and reason                      could be reconciled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lieved in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orders of tru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son – could demonstrate propositions such as the existence of Go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ith – things like the nature of the Trinity must be accep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verse as a great chain of be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mnipotent God called everything into being, with everything had its pl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 occupied a place midway between the material and the spiritu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son gave human beings the power to understand some th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great works –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 contra Gentiles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amp;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 Theologica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onized after death in 127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4" descr="St Anselm"/>
          <p:cNvPicPr/>
          <p:nvPr/>
        </p:nvPicPr>
        <p:blipFill>
          <a:blip r:embed="rId1"/>
          <a:stretch/>
        </p:blipFill>
        <p:spPr>
          <a:xfrm>
            <a:off x="7010280" y="304920"/>
            <a:ext cx="1943280" cy="3352680"/>
          </a:xfrm>
          <a:prstGeom prst="rect">
            <a:avLst/>
          </a:prstGeom>
          <a:ln w="0">
            <a:noFill/>
          </a:ln>
        </p:spPr>
      </p:pic>
    </p:spTree>
  </p:cSld>
  <p:transition>
    <p:cut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holasticism and Scienc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53416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ientific Metho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Europeans started to systematically observe and investigate the physical univer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urred by newly translated Greek and Arabic 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bert Grossetest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English bishop and scho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istoteli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ed an early system of experimental methodology with an emphasis on observation, hypothesis and verif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ied to demonstrate that the world was rou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eriments on the refraction of l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ger Bac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1214 129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oked for practical applications - telesco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gued that observation should guide reas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4" descr="bacon"/>
          <p:cNvPicPr/>
          <p:nvPr/>
        </p:nvPicPr>
        <p:blipFill>
          <a:blip r:embed="rId1"/>
          <a:stretch/>
        </p:blipFill>
        <p:spPr>
          <a:xfrm>
            <a:off x="6172200" y="3733920"/>
            <a:ext cx="2139840" cy="2603520"/>
          </a:xfrm>
          <a:prstGeom prst="rect">
            <a:avLst/>
          </a:prstGeom>
          <a:ln w="0">
            <a:noFill/>
          </a:ln>
        </p:spPr>
      </p:pic>
    </p:spTree>
  </p:cSld>
  <p:transition>
    <p:cut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ast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4" descr="800px-Caernarfon_castle_interior"/>
          <p:cNvPicPr/>
          <p:nvPr/>
        </p:nvPicPr>
        <p:blipFill>
          <a:blip r:embed="rId1"/>
          <a:stretch/>
        </p:blipFill>
        <p:spPr>
          <a:xfrm>
            <a:off x="4038480" y="1447920"/>
            <a:ext cx="4953240" cy="36590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carcassonne"/>
          <p:cNvPicPr/>
          <p:nvPr/>
        </p:nvPicPr>
        <p:blipFill>
          <a:blip r:embed="rId2"/>
          <a:stretch/>
        </p:blipFill>
        <p:spPr>
          <a:xfrm>
            <a:off x="152280" y="3809880"/>
            <a:ext cx="3810240" cy="28576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castle"/>
          <p:cNvPicPr/>
          <p:nvPr/>
        </p:nvPicPr>
        <p:blipFill>
          <a:blip r:embed="rId3"/>
          <a:stretch/>
        </p:blipFill>
        <p:spPr>
          <a:xfrm>
            <a:off x="152280" y="1066680"/>
            <a:ext cx="3810240" cy="2500560"/>
          </a:xfrm>
          <a:prstGeom prst="rect">
            <a:avLst/>
          </a:prstGeom>
          <a:ln w="0">
            <a:noFill/>
          </a:ln>
        </p:spPr>
      </p:pic>
    </p:spTree>
  </p:cSld>
  <p:transition>
    <p:cut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ivalry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28600" y="837720"/>
            <a:ext cx="54100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als associated with knightho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ench wor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vali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hich means “knight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nor is the foundational and guiding princip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ree basic area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Relation to countrymen and fellow Christian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rcy, courage, valor, fairness, protection of the weak and poor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vant-hood to lo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rrior chivalry - chief duty is to his lo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Relation to Go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ing faithful to the church, being the champion of good against evil, being generous and obeying God above a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ion to wom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ea that the knight is to serve a lad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l gentleness and graciousness to all wom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urtly lo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icture 6" descr="setting%20out%20for%202nd%20crusade"/>
          <p:cNvPicPr/>
          <p:nvPr/>
        </p:nvPicPr>
        <p:blipFill>
          <a:blip r:embed="rId1"/>
          <a:stretch/>
        </p:blipFill>
        <p:spPr>
          <a:xfrm>
            <a:off x="5522760" y="2209680"/>
            <a:ext cx="3381480" cy="3657600"/>
          </a:xfrm>
          <a:prstGeom prst="rect">
            <a:avLst/>
          </a:prstGeom>
          <a:ln w="0">
            <a:noFill/>
          </a:ln>
        </p:spPr>
      </p:pic>
    </p:spTree>
  </p:cSld>
  <p:transition>
    <p:cut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form in the Church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81532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hurch’s spiritual and secular authority influenced every facet of lif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ginning of the 1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en.- the Church largest landowner in Europe – Up to a third of all l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led kings and emper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urch reformers scrutinized Church’s involvement in temporal affai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led for ending simony – accepting bribes in order to receive Church off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ablishment of celibacy for the cler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 of the papacy continued to gr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o X proclaimed the absolute primacy of St. Peter in 10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eat Schism - Leo X broke with the Eastern Orthodox Church in 105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pe supreme over the patriarc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ut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form in the Chu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240" y="838080"/>
            <a:ext cx="853452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vestiture Controversy - between 1073 and 108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narchs choose high church officials in their real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pe Nicholas II – 1059 – Establishes selection by College of Cardin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ggle between Henry IV &amp; Gregory V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egory VII, brought an end to lay investi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77 Henry comes to Canos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x Dei (Peace of Go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1040 pope tried to curtail continuous state of warfare by declaring a placed women, children travelers and priests under papal prot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nned fighting between Wednesday night and Monday morning and on holy day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ft only 90 days a year for warf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d not stop warf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lt of the Virgin Mar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eclipsed the veneration of individual saint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 mediator role between sinful humanity and Jes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y cathedrals dedicated to “Notre Dame” or “Our Lady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ut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000 A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4" descr="map_europe_1000ad"/>
          <p:cNvPicPr/>
          <p:nvPr/>
        </p:nvPicPr>
        <p:blipFill>
          <a:blip r:embed="rId1"/>
          <a:stretch/>
        </p:blipFill>
        <p:spPr>
          <a:xfrm>
            <a:off x="2971800" y="152280"/>
            <a:ext cx="5389560" cy="7848720"/>
          </a:xfrm>
          <a:prstGeom prst="rect">
            <a:avLst/>
          </a:prstGeom>
          <a:ln w="0">
            <a:noFill/>
          </a:ln>
        </p:spPr>
      </p:pic>
    </p:spTree>
  </p:cSld>
  <p:transition>
    <p:cut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thic Architectur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6483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yle originated at the abbey church of Saint-Denis in Saint-Denis, near Par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ological messag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eat glory of God versus the smallness and insignificance of the mortal be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ying buttre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inted arc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es stained-glass wind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ventive sculpture – saints &amp; gargoy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icture 1030" descr="amiens"/>
          <p:cNvPicPr/>
          <p:nvPr/>
        </p:nvPicPr>
        <p:blipFill>
          <a:blip r:embed="rId1"/>
          <a:stretch/>
        </p:blipFill>
        <p:spPr>
          <a:xfrm>
            <a:off x="5611680" y="1676520"/>
            <a:ext cx="3167280" cy="4724280"/>
          </a:xfrm>
          <a:prstGeom prst="rect">
            <a:avLst/>
          </a:prstGeom>
          <a:ln w="0">
            <a:noFill/>
          </a:ln>
        </p:spPr>
      </p:pic>
    </p:spTree>
  </p:cSld>
  <p:transition>
    <p:cut thruBlk="true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thic Archite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028" descr="Paris"/>
          <p:cNvPicPr/>
          <p:nvPr/>
        </p:nvPicPr>
        <p:blipFill>
          <a:blip r:embed="rId1"/>
          <a:stretch/>
        </p:blipFill>
        <p:spPr>
          <a:xfrm>
            <a:off x="4114800" y="784080"/>
            <a:ext cx="4572000" cy="32194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029" descr="window_in_gothic_cathedral"/>
          <p:cNvPicPr/>
          <p:nvPr/>
        </p:nvPicPr>
        <p:blipFill>
          <a:blip r:embed="rId2"/>
          <a:stretch/>
        </p:blipFill>
        <p:spPr>
          <a:xfrm>
            <a:off x="152280" y="915840"/>
            <a:ext cx="3772080" cy="50245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030" descr="paris21"/>
          <p:cNvPicPr/>
          <p:nvPr/>
        </p:nvPicPr>
        <p:blipFill>
          <a:blip r:embed="rId3"/>
          <a:stretch/>
        </p:blipFill>
        <p:spPr>
          <a:xfrm>
            <a:off x="4572000" y="4191120"/>
            <a:ext cx="3733920" cy="2387520"/>
          </a:xfrm>
          <a:prstGeom prst="rect">
            <a:avLst/>
          </a:prstGeom>
          <a:ln w="0">
            <a:noFill/>
          </a:ln>
        </p:spPr>
      </p:pic>
    </p:spTree>
  </p:cSld>
  <p:transition>
    <p:cut thruBlk="true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Monastic Order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579132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dicated to living simple, austere existence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edient to Po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jected life in the monaste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k directly with peop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ught against here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dicant order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13th centu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dicated to life of pover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ght to assist the po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stercians – c. 1100 –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unded by St. Bernard of Clairau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 1153 at least 343 chapter hou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nciscan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unded by St. Francis of Assis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nown as the Grey Friars founded 1209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rmelite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Hermits of the Blessed Virgin Mary of Carme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nown as the White Friars, founded 1206–1214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minicans -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der of Preachers, founded 121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phasized preaching rather than pover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ined in rhetoric to combat heretics with argu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gustinian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Hermits of St. Augustine, founded 1256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Picture 5" descr="ABS-francis-m"/>
          <p:cNvPicPr/>
          <p:nvPr/>
        </p:nvPicPr>
        <p:blipFill>
          <a:blip r:embed="rId1"/>
          <a:stretch/>
        </p:blipFill>
        <p:spPr>
          <a:xfrm>
            <a:off x="6019920" y="1690560"/>
            <a:ext cx="2819160" cy="3476880"/>
          </a:xfrm>
          <a:prstGeom prst="rect">
            <a:avLst/>
          </a:prstGeom>
          <a:ln w="0">
            <a:noFill/>
          </a:ln>
        </p:spPr>
      </p:pic>
    </p:spTree>
  </p:cSld>
  <p:transition>
    <p:cut thruBlk="true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ews in Western Europ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61084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ews very persecuted during Middle 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hurch prohibited Christians from lending money at interest – usu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ews became the Empire’s financial ag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rban II’s call for crusade in 1095 opened a period of persec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first pogram against the Jews took place during this peri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96 – 1215 – numerous persecutions of Je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03 – Henry IV denied Jews the right to bear a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freemen could bear arms co Jews were considered as “unfre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15 – Fourth Lateran Council prohibited Jews from holding off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ignated certain clothes to wear as well as areas in which Jews were allowed to live – ghet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06 – Jews were expelled from Fr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ut thruBlk="true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retical Movement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51920" y="914400"/>
            <a:ext cx="579132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ss movements that questioned church doctr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ginning in the 1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entu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iginated in the newly urbanized areas such as southern France and northern Ital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urch reaction was to eliminate some and integrate oth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tharis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movement with Gnostic el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so called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bigensian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ualists believed that historical events were the result of struggle between a good &amp; ev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Albigensian Crusade launched by Pope Innocent III in 1209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utal massacres – “Kill them all; God will     know his own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ldensia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ldes of Ly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posed to corruption of the Chur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quisition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ablished in 1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entu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secution and torture to identify heres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6">
            <a:hlinkClick r:id="rId1"/>
          </p:cNvPr>
          <p:cNvSpPr/>
          <p:nvPr/>
        </p:nvSpPr>
        <p:spPr>
          <a:xfrm>
            <a:off x="3600360" y="2438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Picture 7" descr="Cathars being expelled from Carcassone in 1209.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702400" y="2362320"/>
            <a:ext cx="3213000" cy="3276360"/>
          </a:xfrm>
          <a:prstGeom prst="rect">
            <a:avLst/>
          </a:prstGeom>
          <a:ln w="0">
            <a:noFill/>
          </a:ln>
        </p:spPr>
      </p:pic>
    </p:spTree>
  </p:cSld>
  <p:transition>
    <p:cut thruBlk="true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urope on the Eve of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 Crusa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4" descr="1090"/>
          <p:cNvPicPr/>
          <p:nvPr/>
        </p:nvPicPr>
        <p:blipFill>
          <a:blip r:embed="rId1"/>
          <a:stretch/>
        </p:blipFill>
        <p:spPr>
          <a:xfrm>
            <a:off x="2122560" y="1371600"/>
            <a:ext cx="4897440" cy="5305320"/>
          </a:xfrm>
          <a:prstGeom prst="rect">
            <a:avLst/>
          </a:prstGeom>
          <a:ln w="0">
            <a:noFill/>
          </a:ln>
        </p:spPr>
      </p:pic>
    </p:spTree>
  </p:cSld>
  <p:transition>
    <p:cut thruBlk="true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 Crusa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51920" y="762120"/>
            <a:ext cx="586764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ies of military campaigns conducted     in the name of Christend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mary goal to recapture Jerusalem &amp;    the Holy Land from Musli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bined pilgrimage with holy w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nks vs. Sarace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 primary crusades -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95 to 129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ually sanctioned by the Po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leashed wave of impassioned, personally felt pious Christian fur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stly unsuccessful exped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fferent cultural interpre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ster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roism, faith and honou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lamic – invasion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rbarian          savagery and brutal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iving memory in Muslim world of to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Picture 4" descr="crusade2"/>
          <p:cNvPicPr/>
          <p:nvPr/>
        </p:nvPicPr>
        <p:blipFill>
          <a:blip r:embed="rId1"/>
          <a:stretch/>
        </p:blipFill>
        <p:spPr>
          <a:xfrm>
            <a:off x="5791320" y="380880"/>
            <a:ext cx="3352680" cy="33321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5" descr="crusades-path"/>
          <p:cNvPicPr/>
          <p:nvPr/>
        </p:nvPicPr>
        <p:blipFill>
          <a:blip r:embed="rId2"/>
          <a:stretch/>
        </p:blipFill>
        <p:spPr>
          <a:xfrm>
            <a:off x="5181480" y="3733920"/>
            <a:ext cx="3791160" cy="2313000"/>
          </a:xfrm>
          <a:prstGeom prst="rect">
            <a:avLst/>
          </a:prstGeom>
          <a:ln w="0">
            <a:noFill/>
          </a:ln>
        </p:spPr>
      </p:pic>
    </p:spTree>
  </p:cSld>
  <p:transition>
    <p:cut thruBlk="true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auses of the Crusa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51920" y="914400"/>
            <a:ext cx="678204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1009, the Fatimid caliph al-Hakim bi-Amr Allah sacked the pilgrimage hospice in Jerusalem and destroyed the Church of the Holy Sepulch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orts began to circulate in the West about cruelty of Muslims toward Christian pilgrim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eas from the Byzantine Emperors          threatened under by the Seljuk Tu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peror wants to resore land to emp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let for intense religious piety of the               late 11th century among public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ying for the cause led to salvat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vestiture Controversy awakened public     interest in religious affai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portunity to increase power of papacy by reuniting Christian world and bringing East under 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Picture 4" descr="crusades"/>
          <p:cNvPicPr/>
          <p:nvPr/>
        </p:nvPicPr>
        <p:blipFill>
          <a:blip r:embed="rId1"/>
          <a:stretch/>
        </p:blipFill>
        <p:spPr>
          <a:xfrm>
            <a:off x="6283440" y="2133720"/>
            <a:ext cx="2678040" cy="3047760"/>
          </a:xfrm>
          <a:prstGeom prst="rect">
            <a:avLst/>
          </a:prstGeom>
          <a:ln w="0">
            <a:noFill/>
          </a:ln>
        </p:spPr>
      </p:pic>
    </p:spTree>
  </p:cSld>
  <p:transition>
    <p:cut thruBlk="true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crusades map"/>
          <p:cNvPicPr/>
          <p:nvPr/>
        </p:nvPicPr>
        <p:blipFill>
          <a:blip r:embed="rId1"/>
          <a:stretch/>
        </p:blipFill>
        <p:spPr>
          <a:xfrm>
            <a:off x="0" y="414360"/>
            <a:ext cx="9144000" cy="6029280"/>
          </a:xfrm>
          <a:prstGeom prst="rect">
            <a:avLst/>
          </a:prstGeom>
          <a:ln w="0">
            <a:noFill/>
          </a:ln>
        </p:spPr>
      </p:pic>
    </p:spTree>
  </p:cSld>
  <p:transition>
    <p:cut thruBlk="true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gacy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of the Crusa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need to raise, transport and supply large armies led to a flourishing of trade throughout Europ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ened Europe to Islamic culture, learning, ideas and produ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lped bring on the Renaissan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lamic world has cultural memory of cruel and savage onslaughts by European Christi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engthened Kings or Central Pow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ituted anti-Semitism toward Jews and persecution of here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ut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n Conquest of England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51055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vasion of the Kingdom of England by William the Conquer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ttle of Hastings - 1066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yeux Tapestr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Claimants to the Crow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rold Godwines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ing Harald of Norwa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lliam (Duke of Normand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tershed in English his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d one of the most powerful monarchies in Europ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ked England with Continental Euro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the stage for English-French conflic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nged the English language and cultur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ar total loss for Anglo-Saxon aristocrac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st successful military conquest of Englan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6" descr="williami"/>
          <p:cNvPicPr/>
          <p:nvPr/>
        </p:nvPicPr>
        <p:blipFill>
          <a:blip r:embed="rId1"/>
          <a:stretch/>
        </p:blipFill>
        <p:spPr>
          <a:xfrm>
            <a:off x="6434280" y="1371600"/>
            <a:ext cx="2160360" cy="33526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7" descr="william"/>
          <p:cNvPicPr/>
          <p:nvPr/>
        </p:nvPicPr>
        <p:blipFill>
          <a:blip r:embed="rId2"/>
          <a:stretch/>
        </p:blipFill>
        <p:spPr>
          <a:xfrm>
            <a:off x="6553080" y="4800600"/>
            <a:ext cx="1981440" cy="1919160"/>
          </a:xfrm>
          <a:prstGeom prst="rect">
            <a:avLst/>
          </a:prstGeom>
          <a:ln w="0">
            <a:noFill/>
          </a:ln>
        </p:spPr>
      </p:pic>
    </p:spTree>
  </p:cSld>
  <p:transition>
    <p:cut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England 1066 - 130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837720"/>
            <a:ext cx="807732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tablishment of Norman Monarch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eat Council replaces Wit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rs in Fr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enry I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r. 1154 – 1189) – expands territ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leanor of Aquita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vast lands in Fr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ichard 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Lion-Hearted (r. 1189 – 1199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rious warri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hn (r. 1199 – 1216) – incompetent 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gna Cart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12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ings are not above the la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ing Could Not Collect Any New Tax Without                                the Consent of the Great Counc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ing could not violate due process of la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 accused Person Was Entitled to a Trial by a Jury of Pee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liam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institution able to restrict power of the 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nights &amp; burgesses elec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comes House of Commons &amp; House of Lor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4" descr="richard"/>
          <p:cNvPicPr/>
          <p:nvPr/>
        </p:nvPicPr>
        <p:blipFill>
          <a:blip r:embed="rId1"/>
          <a:stretch/>
        </p:blipFill>
        <p:spPr>
          <a:xfrm>
            <a:off x="6400800" y="914400"/>
            <a:ext cx="2457360" cy="3276720"/>
          </a:xfrm>
          <a:prstGeom prst="rect">
            <a:avLst/>
          </a:prstGeom>
          <a:ln w="0">
            <a:noFill/>
          </a:ln>
        </p:spPr>
      </p:pic>
    </p:spTree>
  </p:cSld>
  <p:transition>
    <p:cut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pulation of Europe Expan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the 11th cen., people began to move outward into the wilderness, in what is known as the "great clearances"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uring the High Middle Ages, forests and marshes were cleared and cultivat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tlements moved beyond the traditional boundaries of the Frankish Empire to new frontiers in eastern Europe, beyond the Elbe River, tripling the size of Germany in the pro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sons for this expansion and colonization inclu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ing climat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known as th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dieval warm perio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llowing longer &amp; more productive growing seas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d of raids by Vikings &amp; Magyar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sulting in greater political stabi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vancements in medieval technolog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llowing more land to be farm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forms of the Churc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 the 11th century further increasing social stabi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se of Feudalis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which also brought increased social stability and more mobilit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ut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mergence of Ci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1028" descr="cityviewlg"/>
          <p:cNvPicPr/>
          <p:nvPr/>
        </p:nvPicPr>
        <p:blipFill>
          <a:blip r:embed="rId1"/>
          <a:stretch/>
        </p:blipFill>
        <p:spPr>
          <a:xfrm>
            <a:off x="914400" y="1143000"/>
            <a:ext cx="7315200" cy="5522760"/>
          </a:xfrm>
          <a:prstGeom prst="rect">
            <a:avLst/>
          </a:prstGeom>
          <a:ln w="0">
            <a:noFill/>
          </a:ln>
        </p:spPr>
      </p:pic>
    </p:spTree>
  </p:cSld>
  <p:transition>
    <p:cut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mergence of Ci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560" y="914040"/>
            <a:ext cx="556236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ween 1150 and 1200 the number of chartered cities in the Holy Roman Empire tripled from 200 to 6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Cities – vitality and squal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fs flocked to the cities looking for opportuniti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fs who lived within a city for a year and  a day were no longer bound to the l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wn air makes men free”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ied to maintain independence of local lords and clerg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dependent charters from 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ed their own municipal administr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revolutions to gain independence of c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6" descr="ville"/>
          <p:cNvPicPr/>
          <p:nvPr/>
        </p:nvPicPr>
        <p:blipFill>
          <a:blip r:embed="rId1"/>
          <a:stretch/>
        </p:blipFill>
        <p:spPr>
          <a:xfrm>
            <a:off x="6021360" y="1295280"/>
            <a:ext cx="2870280" cy="4114800"/>
          </a:xfrm>
          <a:prstGeom prst="rect">
            <a:avLst/>
          </a:prstGeom>
          <a:ln w="0">
            <a:noFill/>
          </a:ln>
        </p:spPr>
      </p:pic>
    </p:spTree>
  </p:cSld>
  <p:transition>
    <p:cut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de and Commerc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510552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de drove the urban explosio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ties grew on the trade rout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taly, Flanders, France, German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class of long-distance merchant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ders began to create their own communiti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ders formed partnerships to share the rewards and the risk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nture capitalis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rchant Fai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mpagne region of Fr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nseatic Leag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as founded in the 12th century in northern Euro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ted political &amp; economic pow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 to 80 c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o Pol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Venetian traveled to Silk Road to Chin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d to new trade with Ea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6" descr="belg10438"/>
          <p:cNvPicPr/>
          <p:nvPr/>
        </p:nvPicPr>
        <p:blipFill>
          <a:blip r:embed="rId1"/>
          <a:stretch/>
        </p:blipFill>
        <p:spPr>
          <a:xfrm>
            <a:off x="5181480" y="1523880"/>
            <a:ext cx="3581640" cy="24368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Marco_Polo_traveling"/>
          <p:cNvPicPr/>
          <p:nvPr/>
        </p:nvPicPr>
        <p:blipFill>
          <a:blip r:embed="rId2"/>
          <a:stretch/>
        </p:blipFill>
        <p:spPr>
          <a:xfrm>
            <a:off x="5562720" y="4267080"/>
            <a:ext cx="3047760" cy="2273400"/>
          </a:xfrm>
          <a:prstGeom prst="rect">
            <a:avLst/>
          </a:prstGeom>
          <a:ln w="0">
            <a:noFill/>
          </a:ln>
        </p:spPr>
      </p:pic>
    </p:spTree>
  </p:cSld>
  <p:transition>
    <p:cut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edieval Guil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556272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ief mechanism for organizing, regulating and restricting trad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xed career path for skilled work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ngthy period of apprenticeship – 4 to 1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aftsmen would acquire independent professional status by producing a masterpiec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ed into trade associations designed to supervise business activity and protect the interests of its membe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ulated working d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sured that work was done to an acceptable standa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id down rates of p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gative: restricted entry into a profession, forbade price cutting or advertising, and discouraged competition and innov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6" descr="medieval_street"/>
          <p:cNvPicPr/>
          <p:nvPr/>
        </p:nvPicPr>
        <p:blipFill>
          <a:blip r:embed="rId1"/>
          <a:stretch/>
        </p:blipFill>
        <p:spPr>
          <a:xfrm>
            <a:off x="5867280" y="1944720"/>
            <a:ext cx="2971800" cy="3881520"/>
          </a:xfrm>
          <a:prstGeom prst="rect">
            <a:avLst/>
          </a:prstGeom>
          <a:ln w="0">
            <a:noFill/>
          </a:ln>
        </p:spPr>
      </p:pic>
    </p:spTree>
  </p:cSld>
  <p:transition>
    <p:cut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3T15:34:04Z</dcterms:created>
  <dc:creator>Bob Baer</dc:creator>
  <dc:description/>
  <dc:language>en-US</dc:language>
  <cp:lastModifiedBy>Sue Gregory</cp:lastModifiedBy>
  <dcterms:modified xsi:type="dcterms:W3CDTF">2008-09-11T04:45:58Z</dcterms:modified>
  <cp:revision>41</cp:revision>
  <dc:subject/>
  <dc:title>High Middle Ages 1000 - 1300</dc:title>
</cp:coreProperties>
</file>